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EEE-38B2-4FBF-A2CB-259DD19C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8F7-C3B7-4049-84A0-3C2DB6E5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B78E-662A-4929-BD32-F580E4DE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5E38-55D0-4BEC-A14A-CF3293BD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7952-D842-452A-A05A-E0EC322D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2C50-A81F-4C16-9A41-D0D2501C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1A6C-CCC7-4113-9A45-FF6FBEDC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900A-AB23-4F3E-9CD8-3598B36C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F5DB-5244-429A-95A5-047C9E87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F4A8-6A1C-419E-A3AF-D5277D2E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950F-BF4A-4622-97D2-78DB7C6C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839-C4A1-49D0-970F-FAB6B4E1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D454-94B6-4FAF-A232-B6A776C3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F1BB-6815-4514-81BE-5A0FB2F5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7388-3F09-41EF-B913-6FDCB2D5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27FF-1982-4FF1-8E7C-FAD1052F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79D1-9022-49FD-8B5B-967A6AFC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24A-1A8B-4BD9-8346-E046922A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231-EDAC-4C7A-B647-291FA065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0F6-F447-4E03-9B74-ED5AED12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E9E-F994-486C-B6E5-0EE869DA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6E4-11B3-4B7E-8287-B0CC6DF5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DA83-CB69-40EF-A035-4841C5F8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B1B-9FF2-405F-AA77-B1201695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21B9-87D7-418D-8591-178A675C377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EECE-15EB-40C5-BB28-4F8CE99545C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!!!!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40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5E WERE LEARNING ABOU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BY MU-AATH!!!!!!!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36720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CLOTHING!!!!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use a jacket called a S.R.B.A to protect them from gun shot or a knife hi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y also use a pepper spray on their special bel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y also keep handcuffs on their belt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859280" y="5067360"/>
            <a:ext cx="25527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EAPONS!!!!!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keep a special thing called a taser to stop criminals from being viole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y carry a strong gun in their car which is locked awa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4886280"/>
            <a:ext cx="37083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ROLES OF POLICE!!!!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raffic offic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Dispatc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Dog handl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re’s a S.W.A.T team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Crime scen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067280" y="4221000"/>
            <a:ext cx="34923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!!!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ANK YOU BY MU-AATH 5E!!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2:12:05Z</dcterms:created>
  <dc:creator>5e08</dc:creator>
  <dc:description/>
  <dc:language>en-US</dc:language>
  <cp:lastModifiedBy>5e08</cp:lastModifiedBy>
  <dcterms:modified xsi:type="dcterms:W3CDTF">2011-09-12T01:50:16Z</dcterms:modified>
  <cp:revision>6</cp:revision>
  <dc:subject/>
  <dc:title>POLICE!!!!!!!</dc:title>
</cp:coreProperties>
</file>